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801600" cy="9601200"/>
  <p:notesSz cx="9882188" cy="1429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907-4DCC-44E5-B3E5-DC00D46D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218-1025-4237-A1AC-1631094C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3F8-B4BF-48A4-8345-1CD49177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CC6-9AB4-463E-9AAE-A21DDA17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7FE-4728-469B-B43E-2237F076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2F8-4C14-4F50-A9CB-8D693741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C13-1416-493C-929A-481C27D5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A21-176D-41D9-8E8D-EE42B63F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2C9-CD7F-43B4-8C06-ABA2D4D6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C74-9AEA-47A3-B8CB-F4427227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1E7-490E-4D0D-8421-BE0D5AC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219-748C-4007-B4AD-42820A82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3EDB-7631-4568-A043-A9FD406754BE}" type="slidenum">
              <a:rPr b="0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8800" y="1055160"/>
            <a:ext cx="3408480" cy="8224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aître d’ouvrage 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Déno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ission(s) réalisée(s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BASE + E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Rôl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 : architecte mandataire;  architecte associé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Année d’achèvement ou état d’avanceme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Surface de plancher construite (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ontant travaux (€ 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Type d’opé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neuf/réhab/extensio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Observation(s) éventuel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facultative libre (précisions diverses, complexité, performance environnementale, démarche spécifique, contrainte particulière, etc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761160" y="5280120"/>
            <a:ext cx="540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423720" y="257040"/>
            <a:ext cx="119541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Candidat 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Opération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intitulé et lie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3808440" y="1055520"/>
            <a:ext cx="8353440" cy="822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ZoneTexte 2"/>
          <p:cNvSpPr/>
          <p:nvPr/>
        </p:nvSpPr>
        <p:spPr>
          <a:xfrm>
            <a:off x="10971360" y="58428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aramond"/>
              </a:rPr>
              <a:t>Référence n°1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8800" y="1055160"/>
            <a:ext cx="3408480" cy="8224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aître d’ouvrage 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Déno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ission(s) réalisée(s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BASE + E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Rôl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 : architecte mandataire;  architecte associé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Année d’achèvement ou état d’avanceme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Surface de plancher construite (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ontant travaux (€ 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Type d’opé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neuf/réhab/extensio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Observation(s) éventuel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facultative libre (précisions diverses, complexité, performance environnementale, démarche spécifique, contrainte particulière, etc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761160" y="5280120"/>
            <a:ext cx="540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423720" y="257040"/>
            <a:ext cx="119541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Candidat 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Opération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intitulé et lie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3808440" y="1055520"/>
            <a:ext cx="8353440" cy="822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ZoneTexte 2"/>
          <p:cNvSpPr/>
          <p:nvPr/>
        </p:nvSpPr>
        <p:spPr>
          <a:xfrm>
            <a:off x="10971360" y="58428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aramond"/>
              </a:rPr>
              <a:t>Référence n°2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8800" y="1055160"/>
            <a:ext cx="3408480" cy="8224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aître d’ouvrage 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Déno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ission(s) réalisée(s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BASE + EX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Rôl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 : architecte mandataire;  architecte associé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Année d’achèvement ou état d’avanceme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Surface de plancher construite (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Montant travaux (€ 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Type d’opé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Exemple : neuf/réhab/extensio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aramond"/>
              </a:rPr>
              <a:t>Observation(s) éventuel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aramond"/>
              </a:rPr>
              <a:t>Réponse facultative libre (précisions diverses, complexité, performance environnementale, démarche spécifique, contrainte particulière, etc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761160" y="5280120"/>
            <a:ext cx="540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23720" y="257040"/>
            <a:ext cx="119541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Candidat 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aramond"/>
              </a:rPr>
              <a:t>Opération: </a:t>
            </a:r>
            <a:r>
              <a:rPr b="1" i="1" lang="fr-FR" sz="1800" spc="-1" strike="noStrike">
                <a:solidFill>
                  <a:srgbClr val="00b0f0"/>
                </a:solidFill>
                <a:latin typeface="Garamond"/>
              </a:rPr>
              <a:t>intitulé et lie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808440" y="1055520"/>
            <a:ext cx="8353440" cy="822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ZoneTexte 2"/>
          <p:cNvSpPr/>
          <p:nvPr/>
        </p:nvSpPr>
        <p:spPr>
          <a:xfrm>
            <a:off x="10971360" y="584280"/>
            <a:ext cx="14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aramond"/>
              </a:rPr>
              <a:t>Référence n°3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9:44:36Z</dcterms:created>
  <dc:creator>batiprogramme</dc:creator>
  <dc:description/>
  <dc:language>en-US</dc:language>
  <cp:lastModifiedBy>Fréderic LEGRAND</cp:lastModifiedBy>
  <dcterms:modified xsi:type="dcterms:W3CDTF">2020-01-10T12:18:52Z</dcterms:modified>
  <cp:revision>27</cp:revision>
  <dc:subject/>
  <dc:title>Diapositive 1</dc:title>
</cp:coreProperties>
</file>