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801600" cy="9601200"/>
  <p:notesSz cx="9882188" cy="14295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1210-41F3-4471-9B56-54F63D32E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1152216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39720" y="5550480"/>
            <a:ext cx="1152216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D7AD-8ABC-442F-9BA3-0E3574B66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39720" y="555048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543720" y="555048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52A9-309E-42E6-A722-88E59EE70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35280" y="223992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431200" y="223992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39720" y="555048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535280" y="555048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431200" y="555048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E314-6A51-451F-BCFE-E8FCB77B2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39720" y="2239920"/>
            <a:ext cx="11522160" cy="633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2A52-6230-4783-A01A-17EEBC5C7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1152216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016C-6A8C-4949-B708-4620E7332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4ED8-9E5D-4000-9194-1DD8EFD32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5947-008A-444C-B7FA-F2EE994FA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39720" y="383760"/>
            <a:ext cx="1152216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2478-111B-4668-BC93-CC7D16F69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39720" y="555048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8A58-D765-4018-8D7E-1E961DEE0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543720" y="555048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0471-0D41-4AE8-A7DE-81537B33C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39720" y="5550480"/>
            <a:ext cx="1152216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27C1-9CF1-4C48-8558-0A2122660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39720" y="2239920"/>
            <a:ext cx="1152216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marL="479520" indent="-47952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-39996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2" marL="1600200" indent="-3207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3" marL="2239920" indent="-31896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4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5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6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9360" y="8744040"/>
            <a:ext cx="2987640" cy="666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373640" y="8744040"/>
            <a:ext cx="4054320" cy="666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173880" y="8744040"/>
            <a:ext cx="2987640" cy="666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61F93-6760-4DBC-9BB3-A526C5F547DB}" type="slidenum">
              <a:rPr b="0" lang="fr-FR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388800" y="1055160"/>
            <a:ext cx="3408480" cy="8224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marL="479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Garamond"/>
              </a:rPr>
              <a:t>Maître d’ouvrage 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400" spc="-1" strike="noStrike">
                <a:solidFill>
                  <a:srgbClr val="00b0f0"/>
                </a:solidFill>
                <a:latin typeface="Garamond"/>
              </a:rPr>
              <a:t>Dénomi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Garamond"/>
              </a:rPr>
              <a:t>Mission(s) réalisée(s)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400" spc="-1" strike="noStrike">
                <a:solidFill>
                  <a:srgbClr val="00b0f0"/>
                </a:solidFill>
                <a:latin typeface="Garamond"/>
              </a:rPr>
              <a:t>Exemple : BASE + EX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Garamond"/>
              </a:rPr>
              <a:t>Rôle 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400" spc="-1" strike="noStrike">
                <a:solidFill>
                  <a:srgbClr val="00b0f0"/>
                </a:solidFill>
                <a:latin typeface="Garamond"/>
              </a:rPr>
              <a:t>Exemple  : architecte mandataire;  architecte associé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Garamond"/>
              </a:rPr>
              <a:t>Année d’achèvement ou état d’avancement 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400" spc="-1" strike="noStrike">
                <a:solidFill>
                  <a:srgbClr val="00b0f0"/>
                </a:solidFill>
                <a:latin typeface="Garamond"/>
              </a:rPr>
              <a:t>Répon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Garamond"/>
              </a:rPr>
              <a:t>Surface de plancher construite (m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400" spc="-1" strike="noStrike">
                <a:solidFill>
                  <a:srgbClr val="00b0f0"/>
                </a:solidFill>
                <a:latin typeface="Garamond"/>
              </a:rPr>
              <a:t>Répons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Garamond"/>
              </a:rPr>
              <a:t>Montant travaux (€ H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400" spc="-1" strike="noStrike">
                <a:solidFill>
                  <a:srgbClr val="00b0f0"/>
                </a:solidFill>
                <a:latin typeface="Garamond"/>
              </a:rPr>
              <a:t>Répon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Garamond"/>
              </a:rPr>
              <a:t>Type d’opé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400" spc="-1" strike="noStrike">
                <a:solidFill>
                  <a:srgbClr val="00b0f0"/>
                </a:solidFill>
                <a:latin typeface="Garamond"/>
              </a:rPr>
              <a:t>Exemple : neuf/réhab/extension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Garamond"/>
              </a:rPr>
              <a:t>Observation(s) éventuell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400" spc="-1" strike="noStrike">
                <a:solidFill>
                  <a:srgbClr val="00b0f0"/>
                </a:solidFill>
                <a:latin typeface="Garamond"/>
              </a:rPr>
              <a:t>Réponse facultative libre (précisions diverses, complexité, performance environnementale, démarche spécifique, contrainte particulière, etc…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6761160" y="5280120"/>
            <a:ext cx="5400720" cy="43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normAutofit/>
          </a:bodyPr>
          <a:p>
            <a:pPr marL="479520" indent="-47952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" name="Rectangle 10"/>
          <p:cNvSpPr/>
          <p:nvPr/>
        </p:nvSpPr>
        <p:spPr>
          <a:xfrm>
            <a:off x="423720" y="257040"/>
            <a:ext cx="11954160" cy="6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Garamond"/>
              </a:rPr>
              <a:t>Candidat : </a:t>
            </a:r>
            <a:r>
              <a:rPr b="1" i="1" lang="fr-FR" sz="1800" spc="-1" strike="noStrike">
                <a:solidFill>
                  <a:srgbClr val="00b0f0"/>
                </a:solidFill>
                <a:latin typeface="Garamond"/>
              </a:rPr>
              <a:t>nom du mandataire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Garamond"/>
              </a:rPr>
              <a:t>Opération: </a:t>
            </a:r>
            <a:r>
              <a:rPr b="1" i="1" lang="fr-FR" sz="1800" spc="-1" strike="noStrike">
                <a:solidFill>
                  <a:srgbClr val="00b0f0"/>
                </a:solidFill>
                <a:latin typeface="Garamond"/>
              </a:rPr>
              <a:t>intitulé et lieu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Rectangle 13"/>
          <p:cNvSpPr/>
          <p:nvPr/>
        </p:nvSpPr>
        <p:spPr>
          <a:xfrm>
            <a:off x="3808440" y="1055520"/>
            <a:ext cx="8353440" cy="822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" name="ZoneTexte 2"/>
          <p:cNvSpPr/>
          <p:nvPr/>
        </p:nvSpPr>
        <p:spPr>
          <a:xfrm>
            <a:off x="10971360" y="584280"/>
            <a:ext cx="144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Garamond"/>
              </a:rPr>
              <a:t>Référence n°1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88800" y="1055160"/>
            <a:ext cx="3408480" cy="8224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marL="479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Garamond"/>
              </a:rPr>
              <a:t>Maître d’ouvrage 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400" spc="-1" strike="noStrike">
                <a:solidFill>
                  <a:srgbClr val="00b0f0"/>
                </a:solidFill>
                <a:latin typeface="Garamond"/>
              </a:rPr>
              <a:t>Dénomi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Garamond"/>
              </a:rPr>
              <a:t>Mission(s) réalisée(s)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400" spc="-1" strike="noStrike">
                <a:solidFill>
                  <a:srgbClr val="00b0f0"/>
                </a:solidFill>
                <a:latin typeface="Garamond"/>
              </a:rPr>
              <a:t>Exemple : BASE + EX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Garamond"/>
              </a:rPr>
              <a:t>Rôle 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400" spc="-1" strike="noStrike">
                <a:solidFill>
                  <a:srgbClr val="00b0f0"/>
                </a:solidFill>
                <a:latin typeface="Garamond"/>
              </a:rPr>
              <a:t>Exemple  : architecte mandataire;  architecte associé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Garamond"/>
              </a:rPr>
              <a:t>Année d’achèvement ou état d’avancement 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400" spc="-1" strike="noStrike">
                <a:solidFill>
                  <a:srgbClr val="00b0f0"/>
                </a:solidFill>
                <a:latin typeface="Garamond"/>
              </a:rPr>
              <a:t>Répon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Garamond"/>
              </a:rPr>
              <a:t>Surface de plancher construite (m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400" spc="-1" strike="noStrike">
                <a:solidFill>
                  <a:srgbClr val="00b0f0"/>
                </a:solidFill>
                <a:latin typeface="Garamond"/>
              </a:rPr>
              <a:t>Répons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Garamond"/>
              </a:rPr>
              <a:t>Montant travaux (€ H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400" spc="-1" strike="noStrike">
                <a:solidFill>
                  <a:srgbClr val="00b0f0"/>
                </a:solidFill>
                <a:latin typeface="Garamond"/>
              </a:rPr>
              <a:t>Répon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Garamond"/>
              </a:rPr>
              <a:t>Type d’opé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400" spc="-1" strike="noStrike">
                <a:solidFill>
                  <a:srgbClr val="00b0f0"/>
                </a:solidFill>
                <a:latin typeface="Garamond"/>
              </a:rPr>
              <a:t>Exemple : neuf/réhab/extension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Garamond"/>
              </a:rPr>
              <a:t>Observation(s) éventuell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400" spc="-1" strike="noStrike">
                <a:solidFill>
                  <a:srgbClr val="00b0f0"/>
                </a:solidFill>
                <a:latin typeface="Garamond"/>
              </a:rPr>
              <a:t>Réponse facultative libre (précisions diverses, complexité, performance environnementale, démarche spécifique, contrainte particulière, etc…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6761160" y="5280120"/>
            <a:ext cx="5400720" cy="43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normAutofit/>
          </a:bodyPr>
          <a:p>
            <a:pPr marL="479520" indent="-47952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" name="Rectangle 10"/>
          <p:cNvSpPr/>
          <p:nvPr/>
        </p:nvSpPr>
        <p:spPr>
          <a:xfrm>
            <a:off x="423720" y="257040"/>
            <a:ext cx="11954160" cy="6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Garamond"/>
              </a:rPr>
              <a:t>Candidat : </a:t>
            </a:r>
            <a:r>
              <a:rPr b="1" i="1" lang="fr-FR" sz="1800" spc="-1" strike="noStrike">
                <a:solidFill>
                  <a:srgbClr val="00b0f0"/>
                </a:solidFill>
                <a:latin typeface="Garamond"/>
              </a:rPr>
              <a:t>nom du mandataire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Garamond"/>
              </a:rPr>
              <a:t>Opération: </a:t>
            </a:r>
            <a:r>
              <a:rPr b="1" i="1" lang="fr-FR" sz="1800" spc="-1" strike="noStrike">
                <a:solidFill>
                  <a:srgbClr val="00b0f0"/>
                </a:solidFill>
                <a:latin typeface="Garamond"/>
              </a:rPr>
              <a:t>intitulé et lieu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" name="Rectangle 13"/>
          <p:cNvSpPr/>
          <p:nvPr/>
        </p:nvSpPr>
        <p:spPr>
          <a:xfrm>
            <a:off x="3808440" y="1055520"/>
            <a:ext cx="8353440" cy="822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0" name="ZoneTexte 2"/>
          <p:cNvSpPr/>
          <p:nvPr/>
        </p:nvSpPr>
        <p:spPr>
          <a:xfrm>
            <a:off x="10971360" y="584280"/>
            <a:ext cx="144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Garamond"/>
              </a:rPr>
              <a:t>Référence n°2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88800" y="1055160"/>
            <a:ext cx="3408480" cy="8224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marL="479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Garamond"/>
              </a:rPr>
              <a:t>Maître d’ouvrage 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400" spc="-1" strike="noStrike">
                <a:solidFill>
                  <a:srgbClr val="00b0f0"/>
                </a:solidFill>
                <a:latin typeface="Garamond"/>
              </a:rPr>
              <a:t>Dénomi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Garamond"/>
              </a:rPr>
              <a:t>Mission(s) réalisée(s)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400" spc="-1" strike="noStrike">
                <a:solidFill>
                  <a:srgbClr val="00b0f0"/>
                </a:solidFill>
                <a:latin typeface="Garamond"/>
              </a:rPr>
              <a:t>Exemple : BASE + EX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Garamond"/>
              </a:rPr>
              <a:t>Rôle 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400" spc="-1" strike="noStrike">
                <a:solidFill>
                  <a:srgbClr val="00b0f0"/>
                </a:solidFill>
                <a:latin typeface="Garamond"/>
              </a:rPr>
              <a:t>Exemple  : architecte mandataire;  architecte associé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Garamond"/>
              </a:rPr>
              <a:t>Année d’achèvement ou état d’avancement 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400" spc="-1" strike="noStrike">
                <a:solidFill>
                  <a:srgbClr val="00b0f0"/>
                </a:solidFill>
                <a:latin typeface="Garamond"/>
              </a:rPr>
              <a:t>Répon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Garamond"/>
              </a:rPr>
              <a:t>Surface de plancher construite (m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400" spc="-1" strike="noStrike">
                <a:solidFill>
                  <a:srgbClr val="00b0f0"/>
                </a:solidFill>
                <a:latin typeface="Garamond"/>
              </a:rPr>
              <a:t>Répons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Garamond"/>
              </a:rPr>
              <a:t>Montant travaux (€ H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400" spc="-1" strike="noStrike">
                <a:solidFill>
                  <a:srgbClr val="00b0f0"/>
                </a:solidFill>
                <a:latin typeface="Garamond"/>
              </a:rPr>
              <a:t>Répon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Garamond"/>
              </a:rPr>
              <a:t>Type d’opé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400" spc="-1" strike="noStrike">
                <a:solidFill>
                  <a:srgbClr val="00b0f0"/>
                </a:solidFill>
                <a:latin typeface="Garamond"/>
              </a:rPr>
              <a:t>Exemple : neuf/réhab/extension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Garamond"/>
              </a:rPr>
              <a:t>Observation(s) éventuell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400" spc="-1" strike="noStrike">
                <a:solidFill>
                  <a:srgbClr val="00b0f0"/>
                </a:solidFill>
                <a:latin typeface="Garamond"/>
              </a:rPr>
              <a:t>Réponse facultative libre (précisions diverses, complexité, performance environnementale, démarche spécifique, contrainte particulière, etc…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6761160" y="5280120"/>
            <a:ext cx="5400720" cy="43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normAutofit/>
          </a:bodyPr>
          <a:p>
            <a:pPr marL="479520" indent="-47952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423720" y="257040"/>
            <a:ext cx="11954160" cy="6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Garamond"/>
              </a:rPr>
              <a:t>Candidat : </a:t>
            </a:r>
            <a:r>
              <a:rPr b="1" i="1" lang="fr-FR" sz="1800" spc="-1" strike="noStrike">
                <a:solidFill>
                  <a:srgbClr val="00b0f0"/>
                </a:solidFill>
                <a:latin typeface="Garamond"/>
              </a:rPr>
              <a:t>nom du mandataire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Garamond"/>
              </a:rPr>
              <a:t>Opération: </a:t>
            </a:r>
            <a:r>
              <a:rPr b="1" i="1" lang="fr-FR" sz="1800" spc="-1" strike="noStrike">
                <a:solidFill>
                  <a:srgbClr val="00b0f0"/>
                </a:solidFill>
                <a:latin typeface="Garamond"/>
              </a:rPr>
              <a:t>intitulé et lieu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4" name="Rectangle 13"/>
          <p:cNvSpPr/>
          <p:nvPr/>
        </p:nvSpPr>
        <p:spPr>
          <a:xfrm>
            <a:off x="3808440" y="1055520"/>
            <a:ext cx="8353440" cy="822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5" name="ZoneTexte 2"/>
          <p:cNvSpPr/>
          <p:nvPr/>
        </p:nvSpPr>
        <p:spPr>
          <a:xfrm>
            <a:off x="10971360" y="584280"/>
            <a:ext cx="144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Garamond"/>
              </a:rPr>
              <a:t>Référence n°3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9T09:44:36Z</dcterms:created>
  <dc:creator>batiprogramme</dc:creator>
  <dc:description/>
  <dc:language>en-US</dc:language>
  <cp:lastModifiedBy>Fréderic LEGRAND</cp:lastModifiedBy>
  <dcterms:modified xsi:type="dcterms:W3CDTF">2020-01-10T12:18:52Z</dcterms:modified>
  <cp:revision>27</cp:revision>
  <dc:subject/>
  <dc:title>Diapositive 1</dc:title>
</cp:coreProperties>
</file>